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7E3-90B0-4074-9C2C-07B51207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637-444E-468B-A0C9-9F06B8EE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63A-A6C7-4C6B-8D76-9A22ED18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958-AD01-44F1-9D38-AF1B2F08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F65-633D-446E-957E-3D42180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4AE-F93E-4B90-9A09-306210F9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E23-717E-4E31-B849-ACE9BC60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E80-0BA1-4D67-8724-13226A7A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4D0-F27F-44A9-9013-A928A0E5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B05-C64E-4AAB-837E-C3E21EC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E6E-47B9-4A1C-93B9-2B914CF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905-398A-4085-B35E-E12D310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EA18-C752-4998-ADC7-737385A6A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632720" cy="625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pin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int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ad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03760" cy="648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al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salt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jug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habl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cant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corr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ail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le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672080" cy="591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83664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na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jugar al fútbo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6624360" cy="521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48360" y="54936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jug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165320"/>
            <a:ext cx="7272360" cy="525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19640" y="549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habl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5545080" cy="5049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can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-15840"/>
            <a:ext cx="7705800" cy="6873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an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62247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981000"/>
            <a:ext cx="4105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jugar 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fútb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408720" cy="636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64000" y="549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76760" cy="5308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bail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9:59:20Z</dcterms:created>
  <dc:creator>Helen</dc:creator>
  <dc:description/>
  <dc:language>en-US</dc:language>
  <cp:lastModifiedBy>Katy Oliver</cp:lastModifiedBy>
  <dcterms:modified xsi:type="dcterms:W3CDTF">2011-01-17T10:29:42Z</dcterms:modified>
  <cp:revision>3</cp:revision>
  <dc:subject/>
  <dc:title>Slide 1</dc:title>
</cp:coreProperties>
</file>